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DF25-5622-431E-9102-566872B7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9316-AF94-429A-8DD2-BEB4352D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23A9-EA67-4A63-A4E4-D182594B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DCC4-1203-4376-A817-1218CB3F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E2E9-E789-4B71-AD1C-F8252C3A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9691-7382-4D38-A3C1-2D268032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69C2-59F5-4E27-962C-BF1412B6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2AA0-AEF9-44EF-85FD-00801088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7C40-FD3F-4B9E-AB34-08459827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94CB-EB58-4C1A-B98C-2A0DC67F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BEF2-D003-4F34-997A-77DB9FAE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AEEE-A2F4-4D78-9718-5782072C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6DD0-DB9B-46FB-A08A-BE1AC053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B582-473C-4F44-8C1E-AC888C37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D783-8E75-4178-A289-675FCCD2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12AD-A951-4F13-A9F2-9A373912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30FD-FBD5-4E6E-8F59-F0BD15A6D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3C06A6-54F8-4932-924A-40059913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0E1EEC-62F5-43BB-8601-B062BAE8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AA3DD-9302-412A-9C94-7C0A7C53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2DF59A-849E-4A06-9C6C-2327C4CD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1FE59-A6EB-449F-883C-2892B928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402F-C538-4E5D-87C0-9B54AB16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0B011-FFE4-429D-ADB0-24DD804F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2B2ABE-347E-438D-BEDB-6F8DEAF3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F4C3FE-A16A-4D76-9283-9797F27A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81A6A9-4104-4E09-AEC9-77CD7A5A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2FC1E0-E745-4892-B32B-55554927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340BD-FF16-499A-A046-566CA1ED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7465B-28C7-42DB-95E7-CC647C03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F8C56E-E6D9-4FA9-92B9-48FFC2B1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0A3D35-0EBE-4402-B001-37565653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36799A-D782-4C86-9F16-07471B98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18E9-4064-414F-9D0B-3CB54E04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F32242-3563-4756-815A-D600734D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61B1FE-EAA9-4F2E-97DE-8A87D161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ABD79B-0730-46B5-80A1-442FF1B2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EB3EBB-DA31-4AC0-B3A3-38CE30A3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E4FAC9-BB46-447F-A294-C952851E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636215-B155-4821-B960-A74F899D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21A395-0CEC-4193-91F0-2FC460F6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3571D1-5841-41A9-8BE2-07A5639D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BACAD4-0CDC-4967-8E5E-5FD6C8DE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5B9D28-BCEC-48F7-9174-591F9357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BCCE-F222-4B80-800D-DEEBBF81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26C502-FA48-4E4C-AAD4-C5A47734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3926B8-461E-43B8-B97A-F816034B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79AF2E-8FE6-40D4-9841-4490FFDC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3B2526-223D-43E2-8EBE-2E94B7E7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657088-308B-4723-8D3E-D800F335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BE1AD5-9486-4D9D-8A8C-65525DBE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070FFF-185C-4EBE-B166-8AE20500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6E2999-1431-4CD7-BF01-93240D93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049321-3519-4ED1-80AD-50341950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98EE3F-AED2-4490-96D1-40A966D1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A9C1-8219-4E9D-8269-7E76F6C6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D5F038-C3DF-493B-B965-A413C791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BEAB0-97AD-4360-B8F4-7823FE85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A9F90-0176-401A-A8FA-043537E6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98573-78BC-4F7D-B15E-575F7FCA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1808F-05D1-4198-AC11-71F19947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1A641-D0EC-4C68-98AD-BF165FAA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ECA90-A458-4F01-AFAC-382E1104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3010E-3CA9-4303-AF1E-8DB242E6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89481-0CB8-4EAD-85A2-0131B089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B1F4C-D059-44CD-85AA-FA570249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5BC7-1B40-4DF2-B044-0CB7DD93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93599-E61D-476F-A4BD-EDE4FA52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EED25-5D72-40BD-9BDA-12B28DC8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E3104-0F2F-47C2-8DDF-AB43A2B8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152146-7BB7-4CCF-84EF-05B207B6C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2E0EAF-664F-41C2-A497-C3A77383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58DD7C-9784-4B8B-A074-B96C8A84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9A452B-FC22-4CF6-9011-1E51CB02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8283C1-B8F8-4316-B8AD-E122C84C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EB5586-2FC3-43BA-951D-45402C3D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361D8E-CAC6-4451-B9BE-68E091FF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93ED-0C91-4B8A-8DB2-B59F8433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F82B59-4F60-4F8D-8C4D-95914D8F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1C6443-A8BB-4F3A-9D68-1BAC318E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25AB95-529E-4CFE-961B-5BDB577D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BEF0F8-FFC9-4C06-8FF3-87E636E5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FD6243-87F0-4CB8-8BB1-FC6A8486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A05A8-59B8-4D0A-A14E-6FEEA77B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29825-E9D1-4EF0-AE27-2BB4D017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11DD8-FDA0-42CA-B21F-A72FB2D2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E3B87-E73C-47C5-86D7-6A73543A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4A958-77A3-463E-8F8A-8529B82F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0C06-C179-4DA3-9CF1-1CCCAF64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1DBCB-0ADE-4DD2-AC72-487F3940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90802-E50C-4B9B-84C8-A75E9F18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38256-5923-4C0E-8057-61130F90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28DD8-D8D7-47D9-A997-5B853F06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0E9BC-434E-4DCD-9B3C-E7CF1374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AC2C9-6ECC-41A3-9456-3E88261E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16951-29BD-490D-9C38-2F8B28F3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3156-906F-4636-BCF4-C559F20F6FE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9B31-5237-41B1-AB48-DF3CEF5B35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B615-8200-464C-89C2-D596D1BD1012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5B89-4E87-489F-815A-328638AAD1AA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4A28-D5D1-4809-A53A-066F91269D86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FF0C-C57B-4FA5-ADCD-1900A48A3902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3EB3-0B1E-4264-A5B8-1AEB89BBC1A5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C509-EF2B-4CBB-B020-E64F544B886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E32D-658F-4422-94D0-8C4DFAE5C357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BC10-BF8B-44A1-9008-743E08C17E6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2BC0-A668-42CE-B9A8-3C23BFEE4367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137F-A0C0-4744-8D5E-BB4015D44DC1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9831-9D83-4426-B1C9-7BC5376552ED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A357-9844-43A5-9F5F-F4D05FE8FA9B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179C-F939-410A-AC5D-1F92D0D9ADE5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FDA4-CD07-436B-AEE8-469CF8B97D4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39"/>
          <p:cNvGrpSpPr/>
          <p:nvPr/>
        </p:nvGrpSpPr>
        <p:grpSpPr>
          <a:xfrm>
            <a:off x="914400" y="914400"/>
            <a:ext cx="7162920" cy="5016600"/>
            <a:chOff x="914400" y="914400"/>
            <a:chExt cx="7162920" cy="5016600"/>
          </a:xfrm>
        </p:grpSpPr>
        <p:pic>
          <p:nvPicPr>
            <p:cNvPr id="351" name="Picture 4" descr="D:\C21 PowerPoint\Multi_Journal\art for blue\Ch25\Ch25-03a.jpg"/>
            <p:cNvPicPr/>
            <p:nvPr/>
          </p:nvPicPr>
          <p:blipFill>
            <a:blip r:embed="rId1"/>
            <a:srcRect l="1260" t="0" r="0" b="48976"/>
            <a:stretch/>
          </p:blipFill>
          <p:spPr>
            <a:xfrm>
              <a:off x="914400" y="914400"/>
              <a:ext cx="716292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Text Box 31"/>
            <p:cNvSpPr/>
            <p:nvPr/>
          </p:nvSpPr>
          <p:spPr>
            <a:xfrm>
              <a:off x="2419920" y="26668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32"/>
            <p:cNvSpPr/>
            <p:nvPr/>
          </p:nvSpPr>
          <p:spPr>
            <a:xfrm>
              <a:off x="3798720" y="2666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0"/>
            <p:cNvSpPr/>
            <p:nvPr/>
          </p:nvSpPr>
          <p:spPr>
            <a:xfrm>
              <a:off x="2432520" y="207180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2"/>
            <p:cNvSpPr/>
            <p:nvPr/>
          </p:nvSpPr>
          <p:spPr>
            <a:xfrm>
              <a:off x="2419920" y="327672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3"/>
            <p:cNvSpPr/>
            <p:nvPr/>
          </p:nvSpPr>
          <p:spPr>
            <a:xfrm>
              <a:off x="2470320" y="396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Text Box 24"/>
            <p:cNvSpPr/>
            <p:nvPr/>
          </p:nvSpPr>
          <p:spPr>
            <a:xfrm>
              <a:off x="2419920" y="464184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Text Box 25"/>
            <p:cNvSpPr/>
            <p:nvPr/>
          </p:nvSpPr>
          <p:spPr>
            <a:xfrm>
              <a:off x="2457360" y="5340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Text Box 27"/>
            <p:cNvSpPr/>
            <p:nvPr/>
          </p:nvSpPr>
          <p:spPr>
            <a:xfrm>
              <a:off x="5132160" y="5334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Text Box 28"/>
            <p:cNvSpPr/>
            <p:nvPr/>
          </p:nvSpPr>
          <p:spPr>
            <a:xfrm>
              <a:off x="3912840" y="5334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Text Box 29"/>
            <p:cNvSpPr/>
            <p:nvPr/>
          </p:nvSpPr>
          <p:spPr>
            <a:xfrm>
              <a:off x="6351480" y="5334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Text Box 30"/>
            <p:cNvSpPr/>
            <p:nvPr/>
          </p:nvSpPr>
          <p:spPr>
            <a:xfrm>
              <a:off x="3811320" y="2071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Text Box 34"/>
            <p:cNvSpPr/>
            <p:nvPr/>
          </p:nvSpPr>
          <p:spPr>
            <a:xfrm>
              <a:off x="3798720" y="3276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36"/>
            <p:cNvSpPr/>
            <p:nvPr/>
          </p:nvSpPr>
          <p:spPr>
            <a:xfrm>
              <a:off x="3798720" y="3962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38"/>
            <p:cNvSpPr/>
            <p:nvPr/>
          </p:nvSpPr>
          <p:spPr>
            <a:xfrm>
              <a:off x="3798720" y="4630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Freeform 10"/>
          <p:cNvSpPr/>
          <p:nvPr/>
        </p:nvSpPr>
        <p:spPr>
          <a:xfrm>
            <a:off x="5257800" y="4952880"/>
            <a:ext cx="304920" cy="76212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8"/>
          <p:cNvSpPr/>
          <p:nvPr/>
        </p:nvSpPr>
        <p:spPr>
          <a:xfrm>
            <a:off x="4114800" y="3657600"/>
            <a:ext cx="1295280" cy="205740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reeform 7"/>
          <p:cNvSpPr/>
          <p:nvPr/>
        </p:nvSpPr>
        <p:spPr>
          <a:xfrm>
            <a:off x="3581280" y="3048120"/>
            <a:ext cx="1828800" cy="266688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6"/>
          <p:cNvSpPr/>
          <p:nvPr/>
        </p:nvSpPr>
        <p:spPr>
          <a:xfrm>
            <a:off x="1981080" y="2438280"/>
            <a:ext cx="3429000" cy="327672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CALCULATING FEDERAL INCOME TAX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Oval 11"/>
          <p:cNvSpPr/>
          <p:nvPr/>
        </p:nvSpPr>
        <p:spPr>
          <a:xfrm>
            <a:off x="609480" y="4419720"/>
            <a:ext cx="381240" cy="38088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Oval 12"/>
          <p:cNvSpPr/>
          <p:nvPr/>
        </p:nvSpPr>
        <p:spPr>
          <a:xfrm>
            <a:off x="609480" y="1905120"/>
            <a:ext cx="381240" cy="38088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Oval 13"/>
          <p:cNvSpPr/>
          <p:nvPr/>
        </p:nvSpPr>
        <p:spPr>
          <a:xfrm>
            <a:off x="609480" y="3124080"/>
            <a:ext cx="381240" cy="38124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Oval 14"/>
          <p:cNvSpPr/>
          <p:nvPr/>
        </p:nvSpPr>
        <p:spPr>
          <a:xfrm>
            <a:off x="609480" y="3657600"/>
            <a:ext cx="381240" cy="38088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Oval 15"/>
          <p:cNvSpPr/>
          <p:nvPr/>
        </p:nvSpPr>
        <p:spPr>
          <a:xfrm>
            <a:off x="609480" y="2514600"/>
            <a:ext cx="381240" cy="38088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Oval 16"/>
          <p:cNvSpPr/>
          <p:nvPr/>
        </p:nvSpPr>
        <p:spPr>
          <a:xfrm>
            <a:off x="609480" y="4952880"/>
            <a:ext cx="381240" cy="38124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40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5-3, page 6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FEDERAL INCOME TAX ADJUSTMEN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9" name="Picture 4" descr="D:\C21 PowerPoint\Multi_Journal\art for blue\Ch25\Ch25-03b.jpg"/>
          <p:cNvPicPr/>
          <p:nvPr/>
        </p:nvPicPr>
        <p:blipFill>
          <a:blip r:embed="rId1"/>
          <a:srcRect l="4932" t="0" r="0" b="62002"/>
          <a:stretch/>
        </p:blipFill>
        <p:spPr>
          <a:xfrm>
            <a:off x="378000" y="1600200"/>
            <a:ext cx="7696080" cy="3895560"/>
          </a:xfrm>
          <a:prstGeom prst="rect">
            <a:avLst/>
          </a:prstGeom>
          <a:ln w="0">
            <a:noFill/>
          </a:ln>
        </p:spPr>
      </p:pic>
      <p:sp>
        <p:nvSpPr>
          <p:cNvPr id="380" name="Oval 6"/>
          <p:cNvSpPr/>
          <p:nvPr/>
        </p:nvSpPr>
        <p:spPr>
          <a:xfrm>
            <a:off x="4267080" y="3048120"/>
            <a:ext cx="381240" cy="38088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Group 15"/>
          <p:cNvGrpSpPr/>
          <p:nvPr/>
        </p:nvGrpSpPr>
        <p:grpSpPr>
          <a:xfrm>
            <a:off x="5029200" y="3124080"/>
            <a:ext cx="3429000" cy="1447920"/>
            <a:chOff x="5029200" y="3124080"/>
            <a:chExt cx="3429000" cy="1447920"/>
          </a:xfrm>
        </p:grpSpPr>
        <p:sp>
          <p:nvSpPr>
            <p:cNvPr id="382" name="Oval 7"/>
            <p:cNvSpPr/>
            <p:nvPr/>
          </p:nvSpPr>
          <p:spPr>
            <a:xfrm>
              <a:off x="5029200" y="4191120"/>
              <a:ext cx="381240" cy="38088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Oval 8"/>
            <p:cNvSpPr/>
            <p:nvPr/>
          </p:nvSpPr>
          <p:spPr>
            <a:xfrm>
              <a:off x="8077320" y="3124080"/>
              <a:ext cx="380880" cy="38124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Oval 9"/>
          <p:cNvSpPr/>
          <p:nvPr/>
        </p:nvSpPr>
        <p:spPr>
          <a:xfrm>
            <a:off x="4873680" y="4876920"/>
            <a:ext cx="380880" cy="38088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434880" y="6361200"/>
            <a:ext cx="47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d the account bala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434880" y="5622840"/>
            <a:ext cx="710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Calculate and enter the federal income tax adjust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3"/>
          <p:cNvSpPr/>
          <p:nvPr/>
        </p:nvSpPr>
        <p:spPr>
          <a:xfrm>
            <a:off x="434880" y="5987880"/>
            <a:ext cx="74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and rule the Adjustments colum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7341120" y="68572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5-3, page 6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0"/>
          <p:cNvSpPr/>
          <p:nvPr/>
        </p:nvSpPr>
        <p:spPr>
          <a:xfrm>
            <a:off x="514440" y="548640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d the net income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514440" y="581508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the column tot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MPLETING A WORK SHEE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2" name="Picture 4" descr="D:\C21 PowerPoint\Multi_Journal\art for blue\Ch25\Ch25-03c.jpg"/>
          <p:cNvPicPr/>
          <p:nvPr/>
        </p:nvPicPr>
        <p:blipFill>
          <a:blip r:embed="rId1"/>
          <a:srcRect l="4932" t="0" r="0" b="62002"/>
          <a:stretch/>
        </p:blipFill>
        <p:spPr>
          <a:xfrm>
            <a:off x="404640" y="914400"/>
            <a:ext cx="7696440" cy="389556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11"/>
          <p:cNvSpPr/>
          <p:nvPr/>
        </p:nvSpPr>
        <p:spPr>
          <a:xfrm>
            <a:off x="514440" y="4800600"/>
            <a:ext cx="74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Total the income statement and balance sheet colum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514440" y="5148360"/>
            <a:ext cx="779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and enter the net income after federal income ta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515880" y="615456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 double 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Group 25"/>
          <p:cNvGrpSpPr/>
          <p:nvPr/>
        </p:nvGrpSpPr>
        <p:grpSpPr>
          <a:xfrm>
            <a:off x="6172200" y="3505320"/>
            <a:ext cx="990720" cy="380880"/>
            <a:chOff x="6172200" y="3505320"/>
            <a:chExt cx="990720" cy="380880"/>
          </a:xfrm>
        </p:grpSpPr>
        <p:sp>
          <p:nvSpPr>
            <p:cNvPr id="397" name="Oval 5"/>
            <p:cNvSpPr/>
            <p:nvPr/>
          </p:nvSpPr>
          <p:spPr>
            <a:xfrm>
              <a:off x="6172200" y="3505320"/>
              <a:ext cx="380880" cy="38088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Oval 16"/>
            <p:cNvSpPr/>
            <p:nvPr/>
          </p:nvSpPr>
          <p:spPr>
            <a:xfrm>
              <a:off x="6781680" y="3505320"/>
              <a:ext cx="381240" cy="38088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Group 18"/>
          <p:cNvGrpSpPr/>
          <p:nvPr/>
        </p:nvGrpSpPr>
        <p:grpSpPr>
          <a:xfrm>
            <a:off x="228600" y="4038480"/>
            <a:ext cx="5181480" cy="381240"/>
            <a:chOff x="228600" y="4038480"/>
            <a:chExt cx="5181480" cy="381240"/>
          </a:xfrm>
        </p:grpSpPr>
        <p:sp>
          <p:nvSpPr>
            <p:cNvPr id="400" name="Oval 9"/>
            <p:cNvSpPr/>
            <p:nvPr/>
          </p:nvSpPr>
          <p:spPr>
            <a:xfrm>
              <a:off x="228600" y="4038480"/>
              <a:ext cx="380880" cy="38124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17"/>
            <p:cNvSpPr/>
            <p:nvPr/>
          </p:nvSpPr>
          <p:spPr>
            <a:xfrm>
              <a:off x="2743200" y="4267080"/>
              <a:ext cx="26668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Oval 20"/>
          <p:cNvSpPr/>
          <p:nvPr/>
        </p:nvSpPr>
        <p:spPr>
          <a:xfrm>
            <a:off x="5029200" y="4419720"/>
            <a:ext cx="380880" cy="38088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Group 22"/>
          <p:cNvGrpSpPr/>
          <p:nvPr/>
        </p:nvGrpSpPr>
        <p:grpSpPr>
          <a:xfrm>
            <a:off x="8000640" y="4249800"/>
            <a:ext cx="914760" cy="380880"/>
            <a:chOff x="8000640" y="4249800"/>
            <a:chExt cx="914760" cy="380880"/>
          </a:xfrm>
        </p:grpSpPr>
        <p:sp>
          <p:nvSpPr>
            <p:cNvPr id="404" name="Line 21"/>
            <p:cNvSpPr/>
            <p:nvPr/>
          </p:nvSpPr>
          <p:spPr>
            <a:xfrm flipH="1">
              <a:off x="8000640" y="4437000"/>
              <a:ext cx="7318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Oval 7"/>
            <p:cNvSpPr/>
            <p:nvPr/>
          </p:nvSpPr>
          <p:spPr>
            <a:xfrm>
              <a:off x="8534520" y="4249800"/>
              <a:ext cx="380880" cy="38088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Group 24"/>
          <p:cNvGrpSpPr/>
          <p:nvPr/>
        </p:nvGrpSpPr>
        <p:grpSpPr>
          <a:xfrm>
            <a:off x="8001000" y="3235320"/>
            <a:ext cx="668160" cy="985680"/>
            <a:chOff x="8001000" y="3235320"/>
            <a:chExt cx="668160" cy="985680"/>
          </a:xfrm>
        </p:grpSpPr>
        <p:sp>
          <p:nvSpPr>
            <p:cNvPr id="407" name="Freeform 23"/>
            <p:cNvSpPr/>
            <p:nvPr/>
          </p:nvSpPr>
          <p:spPr>
            <a:xfrm>
              <a:off x="8001000" y="3503520"/>
              <a:ext cx="463680" cy="7174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Oval 19"/>
            <p:cNvSpPr/>
            <p:nvPr/>
          </p:nvSpPr>
          <p:spPr>
            <a:xfrm>
              <a:off x="8288280" y="3235320"/>
              <a:ext cx="380880" cy="38088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Text Box 26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5-3, page 6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9:10:43Z</dcterms:created>
  <dc:creator>Mary Colleen McLaughlin</dc:creator>
  <dc:description/>
  <dc:language>en-US</dc:language>
  <cp:lastModifiedBy>David Combs</cp:lastModifiedBy>
  <dcterms:modified xsi:type="dcterms:W3CDTF">2011-12-15T19:59:02Z</dcterms:modified>
  <cp:revision>77</cp:revision>
  <dc:subject/>
  <dc:title>ADJUSTING ENTRY FOR SUPPLIES</dc:title>
</cp:coreProperties>
</file>